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2.gif" ContentType="image/gi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7.wmf" ContentType="image/x-wmf"/>
  <Override PartName="/ppt/media/image16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2095-6E83-407A-AE21-03A22DFE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3801-C30E-4727-A352-D5BB9FC5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B43-86D8-4129-A960-7B1D1DA7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6F3B-F919-4C51-BAC4-92D30AA1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4149-225C-45FB-B29B-AFF7ACC9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5704-7CF5-4348-94D3-50CF97F0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2DAB-D051-4B28-8761-BEFB8158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ADB3-9C1F-4ACA-B8A8-EF77C3DE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65F0-7117-45D4-A3BD-AFFC850D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8156-8D42-48E5-AFEC-1815AFFC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80BC-94BF-4BDE-83C3-C7E7909F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3D4-9FDE-40BC-8DD5-135479A8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4969-9A72-4F23-A738-17530BA6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F893-7C66-4C9F-BAAA-E1D4843F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EEA0-FCA0-443C-973D-BAF027B2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59B3-2FBB-42FE-8B0C-5C645F44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A1EE-0B43-4312-8D0B-08218DD3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5896-F2BF-4D2B-93A0-E7797ECD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6AD-BBED-4B5F-98D9-D8D705B6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70B-C6C9-4D63-A200-9572AED3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048-1B26-4E32-9999-6A6A03D0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518E-7D9E-43F5-A652-385BF1A7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474D-E56E-4F16-9B4F-BB9DE754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7DBA-7BD1-4298-A678-FE631356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6A35-CD80-4727-A650-DBCECFFC3561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E955-1E4A-461A-83C6-EF83E5D3B9A1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666520" y="474840"/>
            <a:ext cx="628668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4360" y="2565360"/>
            <a:ext cx="7775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оциально-экономические факторы рождаемости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 современной России: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эмпирические измерения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916360" y="981000"/>
            <a:ext cx="3767040" cy="13683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95280" y="5661000"/>
            <a:ext cx="8137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0000"/>
                </a:solidFill>
                <a:latin typeface="Arial"/>
              </a:rPr>
              <a:t>Доклад на семинаре Фонда народонаселения ООН: «</a:t>
            </a:r>
            <a:r>
              <a:rPr b="1" i="1" lang="ru-RU" sz="1600" spc="-1" strike="noStrike">
                <a:solidFill>
                  <a:srgbClr val="cc0000"/>
                </a:solidFill>
                <a:latin typeface="Arial"/>
              </a:rPr>
              <a:t>Низкая рождаемость в Российской Федерации: вызовы и стратегические подходы</a:t>
            </a:r>
            <a:r>
              <a:rPr b="0" i="1" lang="ru-RU" sz="1600" spc="-1" strike="noStrike">
                <a:solidFill>
                  <a:srgbClr val="cc0000"/>
                </a:solidFill>
                <a:latin typeface="Arial"/>
              </a:rPr>
              <a:t>»,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0000"/>
                </a:solidFill>
                <a:latin typeface="Arial"/>
              </a:rPr>
              <a:t>Москва, 14-15 сентября 2006 г.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CB5D-DE2A-46F9-87BF-806D6EBBDAD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3024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Уровень образования женщин, родивших ребенка в течение последних 3 лет, %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Отклонения в рождаемости различных образовательных групп женщин в возрастном разрезе, раз</a:t>
            </a: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635280" y="404640"/>
            <a:ext cx="5508720" cy="30956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3635280" y="3429000"/>
            <a:ext cx="5508720" cy="32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6BB5-D299-4572-9FBA-07803BAA1E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3024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Рождения в течение последних трех лет в зависимости от отношения респонденток к религии, % в группе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Фактическая рождаемость женщин разных возрастов в зависимости от степени религиозности респонденток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3419640" y="404640"/>
            <a:ext cx="5545080" cy="29530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3348000" y="3357720"/>
            <a:ext cx="5616720" cy="33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68F-CBA2-493B-AD4B-A7D81D0792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продуктивные намерения</a:t>
            </a: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Доли женщин, намеренных родить (еще одного) ребенка в зависимости от уже имеющихся детей,</a:t>
            </a:r>
            <a:br>
              <a:rPr sz="2000"/>
            </a:b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по типам поселения, % от группы</a:t>
            </a:r>
            <a:endParaRPr b="0" lang="en-US" sz="2000" spc="-1" strike="noStrike">
              <a:solidFill>
                <a:srgbClr val="404176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684360" y="2565360"/>
          <a:ext cx="7772040" cy="3890520"/>
        </p:xfrm>
        <a:graphic>
          <a:graphicData uri="http://schemas.openxmlformats.org/drawingml/2006/table">
            <a:tbl>
              <a:tblPr/>
              <a:tblGrid>
                <a:gridCol w="1554480"/>
                <a:gridCol w="1554480"/>
                <a:gridCol w="1554480"/>
                <a:gridCol w="1554120"/>
                <a:gridCol w="155448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детей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 ребенком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2 и более детьми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6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 намерения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2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о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2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1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мерения на 3 года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4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4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о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4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7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8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FE3D-63C9-4556-849E-F9DED54EC9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3024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Намерения женщин иметь (еще одного) ребенка в зависимости от числа имеющихся детей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Распределение женщин, намеренных родить (еще одного) ребенка по возрастам и числу имеющихся детей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6294600" y="4957920"/>
            <a:ext cx="75960" cy="759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609360" y="520200"/>
            <a:ext cx="5306040" cy="2939760"/>
            <a:chOff x="3609360" y="520200"/>
            <a:chExt cx="5306040" cy="2939760"/>
          </a:xfrm>
        </p:grpSpPr>
        <p:sp>
          <p:nvSpPr>
            <p:cNvPr id="395" name=""/>
            <p:cNvSpPr/>
            <p:nvPr/>
          </p:nvSpPr>
          <p:spPr>
            <a:xfrm>
              <a:off x="3609360" y="520200"/>
              <a:ext cx="5306040" cy="2939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85480" y="2436480"/>
              <a:ext cx="49363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85480" y="2145960"/>
              <a:ext cx="49363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85480" y="1853640"/>
              <a:ext cx="49363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85480" y="1564920"/>
              <a:ext cx="49363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85480" y="1272600"/>
              <a:ext cx="49363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85480" y="980280"/>
              <a:ext cx="49363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85480" y="689760"/>
              <a:ext cx="49363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49000" y="1964880"/>
              <a:ext cx="353520" cy="763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51160" y="1964880"/>
              <a:ext cx="351360" cy="76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4880" y="1347840"/>
              <a:ext cx="353520" cy="13806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19320" y="1807560"/>
              <a:ext cx="353160" cy="9212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853760" y="2497680"/>
              <a:ext cx="353160" cy="2307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02880" y="1962720"/>
              <a:ext cx="353160" cy="76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02880" y="1962720"/>
              <a:ext cx="35316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38760" y="1050120"/>
              <a:ext cx="351360" cy="1678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72480" y="1853640"/>
              <a:ext cx="351360" cy="874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06920" y="2593440"/>
              <a:ext cx="353160" cy="135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85480" y="689760"/>
              <a:ext cx="1440" cy="203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57400" y="2728800"/>
              <a:ext cx="5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57400" y="2436480"/>
              <a:ext cx="5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57400" y="2145960"/>
              <a:ext cx="5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57400" y="1853640"/>
              <a:ext cx="5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57400" y="1564920"/>
              <a:ext cx="5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57400" y="1272600"/>
              <a:ext cx="5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7400" y="980280"/>
              <a:ext cx="5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57400" y="689760"/>
              <a:ext cx="5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85480" y="2728800"/>
              <a:ext cx="493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3885480" y="2692440"/>
              <a:ext cx="1440" cy="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121360" y="2692440"/>
              <a:ext cx="1440" cy="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354000" y="2692440"/>
              <a:ext cx="1440" cy="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7589880" y="2692440"/>
              <a:ext cx="1800" cy="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8822160" y="2692440"/>
              <a:ext cx="1800" cy="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02880" y="1986840"/>
              <a:ext cx="3704040" cy="659520"/>
            </a:xfrm>
            <a:custGeom>
              <a:avLst/>
              <a:gdLst/>
              <a:ahLst/>
              <a:rect l="l" t="t" r="r" b="b"/>
              <a:pathLst>
                <a:path w="2669" h="481">
                  <a:moveTo>
                    <a:pt x="0" y="0"/>
                  </a:moveTo>
                  <a:lnTo>
                    <a:pt x="890" y="344"/>
                  </a:lnTo>
                  <a:lnTo>
                    <a:pt x="1779" y="256"/>
                  </a:lnTo>
                  <a:lnTo>
                    <a:pt x="2669" y="481"/>
                  </a:lnTo>
                </a:path>
              </a:pathLst>
            </a:custGeom>
            <a:noFill/>
            <a:ln w="3024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97120" y="1954440"/>
              <a:ext cx="231840" cy="105480"/>
            </a:xfrm>
            <a:custGeom>
              <a:avLst/>
              <a:gdLst/>
              <a:ahLst/>
              <a:rect l="l" t="t" r="r" b="b"/>
              <a:pathLst>
                <a:path w="264" h="126">
                  <a:moveTo>
                    <a:pt x="13" y="0"/>
                  </a:moveTo>
                  <a:lnTo>
                    <a:pt x="264" y="89"/>
                  </a:lnTo>
                  <a:lnTo>
                    <a:pt x="251" y="126"/>
                  </a:lnTo>
                  <a:lnTo>
                    <a:pt x="0" y="3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42000" y="2072160"/>
              <a:ext cx="231840" cy="105840"/>
            </a:xfrm>
            <a:custGeom>
              <a:avLst/>
              <a:gdLst/>
              <a:ahLst/>
              <a:rect l="l" t="t" r="r" b="b"/>
              <a:pathLst>
                <a:path w="264" h="126">
                  <a:moveTo>
                    <a:pt x="13" y="0"/>
                  </a:moveTo>
                  <a:lnTo>
                    <a:pt x="264" y="89"/>
                  </a:lnTo>
                  <a:lnTo>
                    <a:pt x="251" y="126"/>
                  </a:lnTo>
                  <a:lnTo>
                    <a:pt x="0" y="3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87960" y="2192040"/>
              <a:ext cx="230400" cy="105480"/>
            </a:xfrm>
            <a:custGeom>
              <a:avLst/>
              <a:gdLst/>
              <a:ahLst/>
              <a:rect l="l" t="t" r="r" b="b"/>
              <a:pathLst>
                <a:path w="262" h="125">
                  <a:moveTo>
                    <a:pt x="12" y="0"/>
                  </a:moveTo>
                  <a:lnTo>
                    <a:pt x="262" y="88"/>
                  </a:lnTo>
                  <a:lnTo>
                    <a:pt x="249" y="125"/>
                  </a:lnTo>
                  <a:lnTo>
                    <a:pt x="0" y="3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32840" y="2308320"/>
              <a:ext cx="210600" cy="10044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13" y="0"/>
                  </a:moveTo>
                  <a:lnTo>
                    <a:pt x="240" y="80"/>
                  </a:lnTo>
                  <a:lnTo>
                    <a:pt x="227" y="117"/>
                  </a:lnTo>
                  <a:lnTo>
                    <a:pt x="0" y="3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736600" y="2376360"/>
              <a:ext cx="23040" cy="3384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1"/>
                  </a:moveTo>
                  <a:lnTo>
                    <a:pt x="25" y="0"/>
                  </a:lnTo>
                  <a:lnTo>
                    <a:pt x="27" y="38"/>
                  </a:lnTo>
                  <a:lnTo>
                    <a:pt x="2" y="4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91400" y="2364480"/>
              <a:ext cx="234000" cy="41040"/>
            </a:xfrm>
            <a:custGeom>
              <a:avLst/>
              <a:gdLst/>
              <a:ahLst/>
              <a:rect l="l" t="t" r="r" b="b"/>
              <a:pathLst>
                <a:path w="267" h="46">
                  <a:moveTo>
                    <a:pt x="0" y="8"/>
                  </a:moveTo>
                  <a:lnTo>
                    <a:pt x="266" y="0"/>
                  </a:lnTo>
                  <a:lnTo>
                    <a:pt x="267" y="38"/>
                  </a:lnTo>
                  <a:lnTo>
                    <a:pt x="2" y="4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257520" y="2354400"/>
              <a:ext cx="233280" cy="38880"/>
            </a:xfrm>
            <a:custGeom>
              <a:avLst/>
              <a:gdLst/>
              <a:ahLst/>
              <a:rect l="l" t="t" r="r" b="b"/>
              <a:pathLst>
                <a:path w="265" h="46">
                  <a:moveTo>
                    <a:pt x="0" y="8"/>
                  </a:moveTo>
                  <a:lnTo>
                    <a:pt x="264" y="0"/>
                  </a:lnTo>
                  <a:lnTo>
                    <a:pt x="265" y="38"/>
                  </a:lnTo>
                  <a:lnTo>
                    <a:pt x="2" y="4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22920" y="2343960"/>
              <a:ext cx="231840" cy="39240"/>
            </a:xfrm>
            <a:custGeom>
              <a:avLst/>
              <a:gdLst/>
              <a:ahLst/>
              <a:rect l="l" t="t" r="r" b="b"/>
              <a:pathLst>
                <a:path w="265" h="47">
                  <a:moveTo>
                    <a:pt x="0" y="8"/>
                  </a:moveTo>
                  <a:lnTo>
                    <a:pt x="264" y="0"/>
                  </a:lnTo>
                  <a:lnTo>
                    <a:pt x="265" y="39"/>
                  </a:lnTo>
                  <a:lnTo>
                    <a:pt x="2" y="4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85080" y="2343960"/>
              <a:ext cx="231840" cy="88920"/>
            </a:xfrm>
            <a:custGeom>
              <a:avLst/>
              <a:gdLst/>
              <a:ahLst/>
              <a:rect l="l" t="t" r="r" b="b"/>
              <a:pathLst>
                <a:path w="266" h="104">
                  <a:moveTo>
                    <a:pt x="10" y="0"/>
                  </a:moveTo>
                  <a:lnTo>
                    <a:pt x="266" y="69"/>
                  </a:lnTo>
                  <a:lnTo>
                    <a:pt x="256" y="104"/>
                  </a:lnTo>
                  <a:lnTo>
                    <a:pt x="0" y="3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336800" y="2434680"/>
              <a:ext cx="234000" cy="90360"/>
            </a:xfrm>
            <a:custGeom>
              <a:avLst/>
              <a:gdLst/>
              <a:ahLst/>
              <a:rect l="l" t="t" r="r" b="b"/>
              <a:pathLst>
                <a:path w="265" h="105">
                  <a:moveTo>
                    <a:pt x="10" y="0"/>
                  </a:moveTo>
                  <a:lnTo>
                    <a:pt x="265" y="69"/>
                  </a:lnTo>
                  <a:lnTo>
                    <a:pt x="256" y="105"/>
                  </a:lnTo>
                  <a:lnTo>
                    <a:pt x="0" y="3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89960" y="2528640"/>
              <a:ext cx="232200" cy="92160"/>
            </a:xfrm>
            <a:custGeom>
              <a:avLst/>
              <a:gdLst/>
              <a:ahLst/>
              <a:rect l="l" t="t" r="r" b="b"/>
              <a:pathLst>
                <a:path w="263" h="107">
                  <a:moveTo>
                    <a:pt x="9" y="0"/>
                  </a:moveTo>
                  <a:lnTo>
                    <a:pt x="263" y="70"/>
                  </a:lnTo>
                  <a:lnTo>
                    <a:pt x="254" y="107"/>
                  </a:lnTo>
                  <a:lnTo>
                    <a:pt x="0" y="3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43480" y="2620800"/>
              <a:ext cx="167040" cy="74880"/>
            </a:xfrm>
            <a:custGeom>
              <a:avLst/>
              <a:gdLst/>
              <a:ahLst/>
              <a:rect l="l" t="t" r="r" b="b"/>
              <a:pathLst>
                <a:path w="191" h="86">
                  <a:moveTo>
                    <a:pt x="9" y="0"/>
                  </a:moveTo>
                  <a:lnTo>
                    <a:pt x="191" y="50"/>
                  </a:lnTo>
                  <a:lnTo>
                    <a:pt x="181" y="86"/>
                  </a:lnTo>
                  <a:lnTo>
                    <a:pt x="0" y="3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449600" y="1935720"/>
              <a:ext cx="105480" cy="102240"/>
            </a:xfrm>
            <a:custGeom>
              <a:avLst/>
              <a:gdLst/>
              <a:ahLst/>
              <a:rect l="l" t="t" r="r" b="b"/>
              <a:pathLst>
                <a:path w="120" h="122">
                  <a:moveTo>
                    <a:pt x="60" y="0"/>
                  </a:moveTo>
                  <a:lnTo>
                    <a:pt x="120" y="122"/>
                  </a:lnTo>
                  <a:lnTo>
                    <a:pt x="0" y="12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85480" y="2407320"/>
              <a:ext cx="105480" cy="1022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60" y="0"/>
                  </a:moveTo>
                  <a:lnTo>
                    <a:pt x="120" y="120"/>
                  </a:lnTo>
                  <a:lnTo>
                    <a:pt x="0" y="12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19920" y="2286000"/>
              <a:ext cx="105480" cy="104040"/>
            </a:xfrm>
            <a:custGeom>
              <a:avLst/>
              <a:gdLst/>
              <a:ahLst/>
              <a:rect l="l" t="t" r="r" b="b"/>
              <a:pathLst>
                <a:path w="120" h="122">
                  <a:moveTo>
                    <a:pt x="60" y="0"/>
                  </a:moveTo>
                  <a:lnTo>
                    <a:pt x="120" y="122"/>
                  </a:lnTo>
                  <a:lnTo>
                    <a:pt x="0" y="12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54360" y="2593440"/>
              <a:ext cx="105120" cy="104040"/>
            </a:xfrm>
            <a:custGeom>
              <a:avLst/>
              <a:gdLst/>
              <a:ahLst/>
              <a:rect l="l" t="t" r="r" b="b"/>
              <a:pathLst>
                <a:path w="120" h="122">
                  <a:moveTo>
                    <a:pt x="60" y="0"/>
                  </a:moveTo>
                  <a:lnTo>
                    <a:pt x="120" y="122"/>
                  </a:lnTo>
                  <a:lnTo>
                    <a:pt x="0" y="12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49600" y="1916640"/>
              <a:ext cx="110520" cy="1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4449240" y="1918080"/>
              <a:ext cx="52920" cy="51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02880" y="1969920"/>
              <a:ext cx="52560" cy="52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449240" y="1969920"/>
              <a:ext cx="52920" cy="52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502880" y="1918080"/>
              <a:ext cx="52560" cy="51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684040" y="2340720"/>
              <a:ext cx="110520" cy="1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5685120" y="2342160"/>
              <a:ext cx="5292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38760" y="2393280"/>
              <a:ext cx="52560" cy="51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685120" y="2393280"/>
              <a:ext cx="52920" cy="51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5738760" y="2342160"/>
              <a:ext cx="5256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18480" y="2301120"/>
              <a:ext cx="11016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6919920" y="2303280"/>
              <a:ext cx="52560" cy="52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72480" y="2355840"/>
              <a:ext cx="52920" cy="51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6919920" y="2355840"/>
              <a:ext cx="52560" cy="51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6972480" y="2303280"/>
              <a:ext cx="52920" cy="52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152200" y="2627640"/>
              <a:ext cx="110520" cy="1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 flipV="1">
              <a:off x="8154360" y="2627280"/>
              <a:ext cx="52560" cy="52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206920" y="2680560"/>
              <a:ext cx="5256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8154360" y="2680560"/>
              <a:ext cx="5256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8206920" y="2627280"/>
              <a:ext cx="52560" cy="52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65960" y="2674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14840" y="23832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14840" y="20912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7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14840" y="17989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7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14840" y="15102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7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14840" y="12175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7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14840" y="9252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7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14840" y="6350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7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06880" y="2829600"/>
              <a:ext cx="703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Все женщины</a:t>
              </a:r>
              <a:endParaRPr b="0" lang="en-US" sz="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64440" y="2829600"/>
              <a:ext cx="48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без детей</a:t>
              </a:r>
              <a:endParaRPr b="0" lang="en-US" sz="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01680" y="2829600"/>
              <a:ext cx="660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с 1 ребенком</a:t>
              </a:r>
              <a:endParaRPr b="0" lang="en-US" sz="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62240" y="2829600"/>
              <a:ext cx="968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с 2 и более детьми</a:t>
              </a:r>
              <a:endParaRPr b="0" lang="en-US" sz="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65280" y="3142080"/>
              <a:ext cx="358560" cy="680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51200" y="3114720"/>
              <a:ext cx="149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общие намерения, % от группы</a:t>
              </a:r>
              <a:endParaRPr b="0" lang="en-US" sz="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92520" y="3142080"/>
              <a:ext cx="360360" cy="68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777720" y="3114720"/>
              <a:ext cx="1075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на 3 года, % от группы</a:t>
              </a:r>
              <a:endParaRPr b="0" lang="en-US" sz="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5280" y="3333600"/>
              <a:ext cx="358560" cy="1440"/>
            </a:xfrm>
            <a:prstGeom prst="line">
              <a:avLst/>
            </a:prstGeom>
            <a:ln w="302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09280" y="3299760"/>
              <a:ext cx="68400" cy="680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40" y="0"/>
                  </a:moveTo>
                  <a:lnTo>
                    <a:pt x="79" y="81"/>
                  </a:lnTo>
                  <a:lnTo>
                    <a:pt x="0" y="8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49040" y="3282120"/>
              <a:ext cx="837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общие, % от всех</a:t>
              </a:r>
              <a:endParaRPr b="0" lang="en-US" sz="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392520" y="3316680"/>
              <a:ext cx="234000" cy="32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36880" y="3297600"/>
              <a:ext cx="73440" cy="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6536520" y="3299760"/>
              <a:ext cx="34920" cy="33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71800" y="3333600"/>
              <a:ext cx="34920" cy="33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536520" y="3333600"/>
              <a:ext cx="34920" cy="33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6571800" y="3299760"/>
              <a:ext cx="34920" cy="33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76280" y="3282120"/>
              <a:ext cx="962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на 3 года, % от всех</a:t>
              </a:r>
              <a:endParaRPr b="0" lang="en-US" sz="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09360" y="520200"/>
              <a:ext cx="5306040" cy="2939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3564000" y="3500280"/>
            <a:ext cx="5400720" cy="31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85E1-9A6F-47E7-9DC9-2EF1D4BBDF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Доля женщин, намеренных родить ребенка, в зависимости от наличия партнера и числа уже рожденных детей, % от группы</a:t>
            </a:r>
            <a:endParaRPr b="0" lang="en-US" sz="2000" spc="-1" strike="noStrike">
              <a:solidFill>
                <a:srgbClr val="404176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192400"/>
                <a:gridCol w="865080"/>
                <a:gridCol w="833400"/>
                <a:gridCol w="865440"/>
                <a:gridCol w="833400"/>
                <a:gridCol w="1110960"/>
                <a:gridCol w="1071720"/>
              </a:tblGrid>
              <a:tr h="993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тнер…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детей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 и более ребенком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ода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ода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ода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6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6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9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вне д/х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8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9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5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4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7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в д/х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3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0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4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2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6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 брак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6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9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3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3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91E-E845-4FFA-9046-4A2FF45159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Относительная вариация числа детей по возрасту и уровню образования матери, отклонение от средней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Фактические рождения                                     Потенциальные рождения</a:t>
            </a:r>
            <a:endParaRPr b="0" lang="en-US" sz="18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179280" y="2025720"/>
            <a:ext cx="4824360" cy="40291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4919760" y="1981080"/>
            <a:ext cx="3684600" cy="41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929-0FE0-4EEA-BC6F-E1AF287E80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8920" y="609480"/>
            <a:ext cx="87138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Удельные веса женщин, намеренных родить ребенка, в различных религиозных группах и группах с разными ценностными ориентациями</a:t>
            </a:r>
            <a:endParaRPr b="0" lang="en-US" sz="2000" spc="-1" strike="noStrike">
              <a:solidFill>
                <a:srgbClr val="404176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179280" y="1557360"/>
          <a:ext cx="8785080" cy="5111280"/>
        </p:xfrm>
        <a:graphic>
          <a:graphicData uri="http://schemas.openxmlformats.org/drawingml/2006/table">
            <a:tbl>
              <a:tblPr/>
              <a:tblGrid>
                <a:gridCol w="3485880"/>
                <a:gridCol w="682560"/>
                <a:gridCol w="1196280"/>
                <a:gridCol w="770040"/>
                <a:gridCol w="684000"/>
                <a:gridCol w="1194480"/>
                <a:gridCol w="771840"/>
              </a:tblGrid>
              <a:tr h="348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ода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детей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и &gt;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детей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и &gt;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884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игиозность 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ностики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7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4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7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4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ая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2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2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8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9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5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3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1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5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3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7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5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ильная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3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8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8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лам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8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6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6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3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84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ерватизм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ники брака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1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2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3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4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5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3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3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1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2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8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9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8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6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3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9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6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3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7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5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ники традиционного брака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6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5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8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7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6AC-978C-4DD2-87A8-A16D2AE27B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Фактическое и потенциальное число детей у женщин в различных религиозных группах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5219640" cy="40338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5076720" y="1773360"/>
            <a:ext cx="4067280" cy="40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4F8-2DDC-4C3B-872F-ACF4810539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Репродуктивные намерения женщин с разным числом уже имеющихся детей на ближайшие 3 года, в разрезе децильных групп</a:t>
            </a:r>
            <a:endParaRPr b="0" lang="en-US" sz="2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11280" y="1739880"/>
            <a:ext cx="7993080" cy="455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15C9-1FE3-4CC4-AF0C-1BE396C46C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Потенциальное среднее число детей в расчете на одну женщину в разрезе децильных групп</a:t>
            </a:r>
            <a:endParaRPr b="0" lang="en-US" sz="2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06436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2FA-1B0A-49B7-BB3D-15B8809259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705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к преодолеть дефици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мографической информации?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Источник данных о демографическом, экономическом и социальном поведении домохозяйств– </a:t>
            </a:r>
            <a:br>
              <a:rPr sz="2000"/>
            </a:b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ыборочные обследования населен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следование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одители и дети, мужчины и женщины в семье и обществе» (РидМиЖ) 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часть международной програм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коления и Генд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Generations &amp; Gender) </a:t>
            </a:r>
            <a:br>
              <a:rPr sz="2000"/>
            </a:b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финансовой поддержке ПФ РФ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PID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ИС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еди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4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да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ка – 11261 чел. в возрасте 18-79 лет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респондент = 1 домохозяйство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ыше 2000 переменных о респонденте, его/ее партнере, родителях, детях, членах домохозяйства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презентативно на уровне РФ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6934-77D2-4277-8A74-FCF616613F8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елаемое и действительное. В чем различия?</a:t>
            </a:r>
            <a:br>
              <a:rPr sz="2800"/>
            </a:b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Факторы, влияющие на репродуктивное поведение и репродуктивные намерения</a:t>
            </a:r>
            <a:endParaRPr b="0" lang="en-US" sz="2000" spc="-1" strike="noStrike">
              <a:solidFill>
                <a:srgbClr val="404176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79280" y="1844640"/>
          <a:ext cx="8785080" cy="4390920"/>
        </p:xfrm>
        <a:graphic>
          <a:graphicData uri="http://schemas.openxmlformats.org/drawingml/2006/table">
            <a:tbl>
              <a:tblPr/>
              <a:tblGrid>
                <a:gridCol w="2393280"/>
                <a:gridCol w="1340280"/>
                <a:gridCol w="1818720"/>
                <a:gridCol w="32328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ы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дения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продуктивные намерения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поселения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 женщины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же рожденных детей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тнерство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чный статус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/–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чный статус незначим для намерений женщин с партнером и женщин, уже имеющих 1 и более детей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женщины на рынке труда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ияние статуса на рынке труда неустойчиво для намерений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партнера на рынке труда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179280" y="6340320"/>
            <a:ext cx="878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Обозначения: «+» – фактор значим (независимо от направления влияния);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«–» – фактор статистически незначим; «0» - отсутствует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елевантная информация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2CF-87EC-4A5B-BEE2-4D31DD7173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Факторы, влияющие на репродуктивное поведение и репродуктивные намерения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0" i="1" lang="ru-RU" sz="2000" spc="-1" strike="noStrike">
                <a:solidFill>
                  <a:srgbClr val="990033"/>
                </a:solidFill>
                <a:latin typeface="Times New Roman"/>
              </a:rPr>
              <a:t>продолж.)</a:t>
            </a:r>
            <a:endParaRPr b="0" lang="en-US" sz="2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9280" y="6021360"/>
            <a:ext cx="86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Обозначения: «+» – фактор значим (независимо от направления влияния);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«–» – фактор статистически незначим; «0» - отсутствует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елевантная информация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826920" y="1700280"/>
          <a:ext cx="7772400" cy="4114800"/>
        </p:xfrm>
        <a:graphic>
          <a:graphicData uri="http://schemas.openxmlformats.org/drawingml/2006/table"/>
        </a:graphic>
      </p:graphicFrame>
      <p:graphicFrame>
        <p:nvGraphicFramePr>
          <p:cNvPr id="515" name=""/>
          <p:cNvGraphicFramePr/>
          <p:nvPr/>
        </p:nvGraphicFramePr>
        <p:xfrm>
          <a:off x="179280" y="1484280"/>
          <a:ext cx="8785440" cy="4145040"/>
        </p:xfrm>
        <a:graphic>
          <a:graphicData uri="http://schemas.openxmlformats.org/drawingml/2006/table">
            <a:tbl>
              <a:tblPr/>
              <a:tblGrid>
                <a:gridCol w="2394360"/>
                <a:gridCol w="1339560"/>
                <a:gridCol w="1816920"/>
                <a:gridCol w="323460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ы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дения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продуктивные намерения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илу отсутствия информации о доходах на момент планирования рождения для моделей рождения эффект дохода не может быть определен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ье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+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ая обеспеченность значима для намерений женщин с партнером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игиозность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77C2-73E6-4488-9A61-7C11D81242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Что из этого следует?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Уроки для социальной политики</a:t>
            </a:r>
            <a:endParaRPr b="0" lang="en-US" sz="2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Потенциал для повышения рождаемости в современной России есть. При предположении, что все респондентки, которые хотят в будущем иметь детей, смогут родить лишь по одному ребенку, рождаемость в ближайшие три года может возрасти с 1,2 до 1,5 ребенка на одну женщину.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Помимо денежного дохода существенным барьером на пути к росту рождаемости (вторых и последующих рождений) является плохая жилищная обеспеченность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В политике нельзя уповать лишь на материальные меры стимулирования роста рождаемости. Среди факторов, реально влияющих на процессы в этой сфере, не менее важную роль играют социальные факторы, иногда никак не связанные с ростом экономического благополучия населения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Если семейная политика будет ориентироваться лишь на официально зарегистрированные браки, то из сферы политического воздействия будут выпадать значительные группы населения, обладающие определенным потенциалом роста рождаемости.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Если рост рождаемости не будет сопровождаться изменениями в трудовых отношениях, внедрением гибких форм занятости для женщин, развитием рынка социальных услуг по воспитанию и образованию детей, то либо потенциал рождаемости у более образованных и активных на рынке труда женщин не будет реализован, либо женщины значительно сократят свое участие в рабочей силе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6894-A1A5-496B-AF09-5934A5647C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 из этого следует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роки для социальной политики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Общество должно быть готовым к тому, что первыми на меры социальной политики в области демографии отреагируют национальные группы, исповедующие ислам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Чтобы знать, что делать, нужно знать, что происходит. Необходимы социологические исследования, позволяющие ответить на вопросы: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798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Реализуются или нет намерения респондентов в отношении будущих рождений?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798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акие факторы будут способствовать повышению рождаемости, а какие – тормозить?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798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акие из них приносят быстрый и ощутимый эффект, а какие являются факторами «отложенного действия»?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798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овлияют ли на эту динамику меры, предложенные правительственной программой в 2006 г.?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798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Наконец, почему социально-экономические факторы по-разному влияют на реальное поведение сегодня и репродуктивные намерения людей в будущем?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следование РиДМиЖ – лонгитьюдное, вторая волна – 2007 г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6202-09B4-4B42-A275-BC529CBDDF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Рождения за последние 3 года в зависимости от числа уже имеющихся детей</a:t>
            </a:r>
            <a:endParaRPr b="0" lang="en-US" sz="2000" spc="-1" strike="noStrike">
              <a:solidFill>
                <a:srgbClr val="404176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graphicFrame>
        <p:nvGraphicFramePr>
          <p:cNvPr id="350" name=""/>
          <p:cNvGraphicFramePr/>
          <p:nvPr/>
        </p:nvGraphicFramePr>
        <p:xfrm>
          <a:off x="684360" y="1989000"/>
          <a:ext cx="7774920" cy="4103640"/>
        </p:xfrm>
        <a:graphic>
          <a:graphicData uri="http://schemas.openxmlformats.org/drawingml/2006/table">
            <a:tbl>
              <a:tblPr/>
              <a:tblGrid>
                <a:gridCol w="2277360"/>
                <a:gridCol w="917640"/>
                <a:gridCol w="915840"/>
                <a:gridCol w="915480"/>
                <a:gridCol w="915840"/>
                <a:gridCol w="917280"/>
                <a:gridCol w="915480"/>
              </a:tblGrid>
              <a:tr h="976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етей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ода назад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ли в течение последних 3 лет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родили в течение последних 3 лет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8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9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9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5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3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2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4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7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5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4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4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3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и более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3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1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84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428-8840-40C3-83D1-F929E78E3FF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7846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ие факторы определяют рождаемость? 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Рождаемость в течение последних трех лет </a:t>
            </a:r>
            <a:br>
              <a:rPr sz="2000"/>
            </a:b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по типу поселений, %</a:t>
            </a:r>
            <a:endParaRPr b="0" lang="en-US" sz="2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828036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11D-716B-42E2-859A-DD51ABD0A78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7138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Рождаемость в течение последних трех лет в разрезе пятилетних возрастных групп женщин, %</a:t>
            </a:r>
            <a:endParaRPr b="0" lang="en-US" sz="2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7993080" cy="43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F2B7-FF6A-459C-8E67-7A175E3EB73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0516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Рождаемость в течение последних трех лет в зависимости от трудового статуса партнеров, %</a:t>
            </a:r>
            <a:endParaRPr b="0" lang="en-US" sz="2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539640" y="1262160"/>
            <a:ext cx="8136000" cy="490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328D-343B-4430-BD83-FBF2B3587C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609480"/>
            <a:ext cx="8424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Фактическое число детей у одной женщины в разрезе децильных групп</a:t>
            </a:r>
            <a:endParaRPr b="0" lang="en-US" sz="2000" spc="-1" strike="noStrike">
              <a:solidFill>
                <a:srgbClr val="404176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755640" y="1557360"/>
          <a:ext cx="7632720" cy="4927680"/>
        </p:xfrm>
        <a:graphic>
          <a:graphicData uri="http://schemas.openxmlformats.org/drawingml/2006/table">
            <a:tbl>
              <a:tblPr/>
              <a:tblGrid>
                <a:gridCol w="3373560"/>
                <a:gridCol w="4259160"/>
              </a:tblGrid>
              <a:tr h="87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ная группа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число детей в расчете на одну женщину в группе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дециль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дециль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C364-B76A-448C-BF33-250E372FFB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Доля женщин, родивших в течение последних 3 лет, </a:t>
            </a:r>
            <a:br>
              <a:rPr sz="2000"/>
            </a:b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 разрезе доходных групп</a:t>
            </a:r>
            <a:endParaRPr b="0" lang="en-US" sz="2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6DAE-A2F9-4499-9ADE-E5DB7165D0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Жилищная обеспеченность до рождения, число комнат в расчете на одного члена домохозяйства *</a:t>
            </a:r>
            <a:r>
              <a:rPr b="0" lang="ru-RU" sz="1800" spc="-1" strike="noStrike">
                <a:solidFill>
                  <a:srgbClr val="404176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* Дети до 3 лет вычтены из числа членов семьи</a:t>
            </a:r>
            <a:endParaRPr b="0" lang="en-US" sz="1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11280" y="1981080"/>
            <a:ext cx="8208720" cy="456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D9C-30D2-4B6A-A38D-E70651997A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13:41:56Z</dcterms:created>
  <dc:creator>Admin</dc:creator>
  <dc:description/>
  <dc:language>en-US</dc:language>
  <cp:lastModifiedBy>Admin</cp:lastModifiedBy>
  <dcterms:modified xsi:type="dcterms:W3CDTF">2006-09-13T13:15:06Z</dcterms:modified>
  <cp:revision>292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02432395</vt:r8>
  </property>
  <property fmtid="{D5CDD505-2E9C-101B-9397-08002B2CF9AE}" pid="3" name="_AuthorEmail">
    <vt:lpwstr>o.sinyavskaya@socpol.ru</vt:lpwstr>
  </property>
  <property fmtid="{D5CDD505-2E9C-101B-9397-08002B2CF9AE}" pid="4" name="_AuthorEmailDisplayName">
    <vt:lpwstr>Oxana Sinyavskaya</vt:lpwstr>
  </property>
  <property fmtid="{D5CDD505-2E9C-101B-9397-08002B2CF9AE}" pid="5" name="_EmailSubject">
    <vt:lpwstr>презентация</vt:lpwstr>
  </property>
</Properties>
</file>